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61A-1613-4BF0-9CB6-08FACE6E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90B-9DF3-4573-BFB1-D187B8E7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187-DF8F-4087-8F5F-09C4FA06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6ED-1297-4470-99D1-9C27D293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07E2D-1518-4125-BB06-06DB86E6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51C98-2768-4882-B01B-9AD68F80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B894A-D748-4FDA-BFC6-6E578BD9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98B64-F6B2-4778-A716-41E80833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8F858-0835-4799-B63F-9E00E168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2CB8F-38AF-4073-8702-11AA1BAB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A2040-1FE4-42A8-8C27-1C823193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BE4-DE02-44E3-A5AF-BF326103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082C8-CC48-444B-9746-5B074B1E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E56E8-D141-4789-964B-3CE78FF8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4F14F-8C73-4DD2-BB98-114D78F2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656A7-2CC1-4DF7-93E3-8942AF96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226EA-9FB8-45F3-8C59-F532FE2F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2D4-38B3-43AA-B0B1-333FDF80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AD9-FA28-4D08-9CAA-7A142F20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A61-0A2F-46D1-9B71-7FE774EE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6CD-9BF3-42C3-8B38-0E062BA0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2BF-6D62-404F-B89B-8BC9E3BB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630-2091-4F80-8B1B-6826B38C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DA8-AE2F-4F97-A866-0C8CCA28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70EB-B4CF-4B40-9F55-171DFD64EF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7D92-C97A-4EEC-AC0A-17322F5612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Hayden and Aa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stimat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 means to round before you ad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Flashcard of a math symbol for Approximately Equal To"/>
          <p:cNvPicPr/>
          <p:nvPr/>
        </p:nvPicPr>
        <p:blipFill>
          <a:blip r:embed="rId1"/>
          <a:stretch/>
        </p:blipFill>
        <p:spPr>
          <a:xfrm>
            <a:off x="6324480" y="0"/>
            <a:ext cx="25815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 means a answer to a adding prop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Flashcard of a math symbol for Sum"/>
          <p:cNvPicPr/>
          <p:nvPr/>
        </p:nvPicPr>
        <p:blipFill>
          <a:blip r:embed="rId1"/>
          <a:stretch/>
        </p:blipFill>
        <p:spPr>
          <a:xfrm>
            <a:off x="3048120" y="2819520"/>
            <a:ext cx="2809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fferenc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o a subtraction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25815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oduc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o a multiplication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024440" y="2714760"/>
            <a:ext cx="25286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otient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o a division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3352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imal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int Between a whole number and a decimal fraction.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86200" y="2714760"/>
            <a:ext cx="1233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41:16Z</dcterms:created>
  <dc:creator>AARON.SOLLY</dc:creator>
  <dc:description/>
  <dc:language>en-US</dc:language>
  <cp:lastModifiedBy>AARON.SOLLY</cp:lastModifiedBy>
  <dcterms:modified xsi:type="dcterms:W3CDTF">2010-11-23T19:05:18Z</dcterms:modified>
  <cp:revision>3</cp:revision>
  <dc:subject/>
  <dc:title>Estimate</dc:title>
</cp:coreProperties>
</file>